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BA1-79B8-44F1-9B02-78363084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676-E19D-44C7-8340-7A3BE9BA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220-7465-41B2-920E-F68AAB20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97D-5F0A-4EB8-8E61-844B91E1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6C5-8AB3-40C0-95CE-BEAC41F8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8FE-1838-4CF1-951A-FB782740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A5A-3CF5-4D27-AE7E-8A198DBA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BA3-3FBC-423B-AC55-1EF2891C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234-C097-477D-99F3-33985C49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AE3-67AF-49AD-AFE0-59C9B6ED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78D-74AC-4FB6-9617-0332A351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1A3-1A91-44FB-B9CD-58DBDC4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EF8C-02EE-4570-9395-97D8EE9E294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0440" y="692280"/>
            <a:ext cx="5183280" cy="734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4581360"/>
            <a:ext cx="2376360" cy="10994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276640"/>
            <a:ext cx="1366920" cy="6426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620640"/>
            <a:ext cx="1582920" cy="642600"/>
          </a:xfrm>
          <a:prstGeom prst="rect">
            <a:avLst/>
          </a:prstGeom>
          <a:solidFill>
            <a:srgbClr val="ff66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0" y="0"/>
            <a:ext cx="1728720" cy="642600"/>
          </a:xfrm>
          <a:prstGeom prst="rect">
            <a:avLst/>
          </a:prstGeom>
          <a:solidFill>
            <a:srgbClr val="ff3399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692280"/>
            <a:ext cx="1368720" cy="6426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3080" y="2997360"/>
            <a:ext cx="1296720" cy="703440"/>
          </a:xfrm>
          <a:prstGeom prst="rect">
            <a:avLst/>
          </a:prstGeom>
          <a:solidFill>
            <a:srgbClr val="33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31400" y="0"/>
            <a:ext cx="0" cy="68580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0:18:11Z</dcterms:created>
  <dc:creator>AlDavis</dc:creator>
  <dc:description/>
  <dc:language>en-US</dc:language>
  <cp:lastModifiedBy>AlDavis</cp:lastModifiedBy>
  <dcterms:modified xsi:type="dcterms:W3CDTF">2007-08-14T00:20:01Z</dcterms:modified>
  <cp:revision>2</cp:revision>
  <dc:subject/>
  <dc:title>Slide 1</dc:title>
</cp:coreProperties>
</file>